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801600" cy="9601200"/>
  <p:notesSz cx="9867900" cy="14093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73E-295D-492B-A805-27E99226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C08-78B8-4905-95A9-68DC82F8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877-6AE7-4180-8289-632B4DE8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FD8-07F6-4FFF-9A29-AAE78574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D97-1955-4A60-97EF-64D8AE24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ECF-7882-46CF-8796-0098E28C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6DE-74BF-40CA-9D0D-7C4E690A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E75-CF5B-4219-A0C7-D7B5452F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637-6E50-4ABE-AD7B-0074B272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FAA1-5F10-42A9-B0FB-C7224159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F8A-F94C-441E-BDF8-D0B568E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B4FE-F7BB-4DA0-814B-805FF63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1600200" indent="-3189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ru-R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899560"/>
            <a:ext cx="405432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899560"/>
            <a:ext cx="2987640" cy="511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ru-RU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85CD8D35-DD7A-47BD-AD8C-95B837CC7E4B}" type="slidenum">
              <a:rPr b="0" lang="ru-RU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0120" y="3405240"/>
            <a:ext cx="8767800" cy="2604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lnSpc>
                <a:spcPct val="100000"/>
              </a:lnSpc>
              <a:spcBef>
                <a:spcPts val="26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4200" spc="-1" strike="noStrike">
                <a:solidFill>
                  <a:srgbClr val="c00000"/>
                </a:solidFill>
                <a:latin typeface="Arial"/>
                <a:ea typeface="Arial"/>
              </a:rPr>
              <a:t>Альбом офисов МТС Банка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720280" y="263520"/>
            <a:ext cx="3828960" cy="11095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lnSpc>
                <a:spcPts val="2098"/>
              </a:lnSpc>
              <a:spcBef>
                <a:spcPts val="4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7f7f7f"/>
                </a:solidFill>
                <a:latin typeface="Calibri"/>
              </a:rPr>
              <a:t>Приложение №2 к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2098"/>
              </a:lnSpc>
              <a:spcBef>
                <a:spcPts val="4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700" spc="-1" strike="noStrike">
                <a:solidFill>
                  <a:srgbClr val="7f7f7f"/>
                </a:solidFill>
                <a:latin typeface="Calibri"/>
              </a:rPr>
              <a:t>Техническому заданию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2098"/>
              </a:lnSpc>
              <a:spcBef>
                <a:spcPts val="4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2098"/>
              </a:lnSpc>
              <a:spcBef>
                <a:spcPts val="4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2098"/>
              </a:lnSpc>
              <a:spcBef>
                <a:spcPts val="4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2098"/>
              </a:lnSpc>
              <a:spcBef>
                <a:spcPts val="4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384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ан расстановки рабочих ме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M:\SHARE\UPDEL\Ремонтно-строительные работы банка\01_Объекты в работе\01_Москва и МО\01_Воронцовка 1_3\04_Техническое задание\01_Планировка\Воронцовка_корр.jpg"/>
          <p:cNvPicPr/>
          <p:nvPr/>
        </p:nvPicPr>
        <p:blipFill>
          <a:blip r:embed="rId1"/>
          <a:stretch/>
        </p:blipFill>
        <p:spPr>
          <a:xfrm>
            <a:off x="352440" y="2284560"/>
            <a:ext cx="1197432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384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рендовая сте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957240" y="1271520"/>
            <a:ext cx="10923480" cy="77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484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рендовая стена и освещ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755640" y="1171440"/>
            <a:ext cx="10923480" cy="772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685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на операционист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55720" y="1171440"/>
            <a:ext cx="10925280" cy="772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585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ена информ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55720" y="1373040"/>
            <a:ext cx="10925280" cy="772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484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формление касс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57240" y="1171440"/>
            <a:ext cx="10923480" cy="772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585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ерные бло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55640" y="1171440"/>
            <a:ext cx="10923480" cy="772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исенков Максим Вячеславович</dc:creator>
  <dc:description/>
  <dc:language>en-US</dc:language>
  <cp:lastModifiedBy>SPonasenkova</cp:lastModifiedBy>
  <dcterms:modified xsi:type="dcterms:W3CDTF">2013-02-20T07:53:46Z</dcterms:modified>
  <cp:revision>16</cp:revision>
  <dc:subject/>
  <dc:title>Визуализация</dc:title>
</cp:coreProperties>
</file>